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4.jpeg" ContentType="image/jpeg"/>
  <Override PartName="/ppt/media/image22.png" ContentType="image/png"/>
  <Override PartName="/ppt/media/image13.png" ContentType="image/png"/>
  <Override PartName="/ppt/media/image12.jpeg" ContentType="image/jpeg"/>
  <Override PartName="/ppt/media/image4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27.png" ContentType="image/png"/>
  <Override PartName="/ppt/media/image3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D61-7B06-48CE-A695-7E9CD9C3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36C-6782-4810-9FD9-81790625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68F-A26A-4DD0-8821-30506C97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03A-ED94-45D5-85F6-8380CD19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68D4-D2FC-44B6-A85E-C5F805D9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D2D6-4B2D-4211-AE23-C32BFAFE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F4F0-A3B8-4E37-BCA6-167795E5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CA8E-3037-4769-A2D4-5F5B4947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3DD5-4A5F-4055-920D-6C8B2455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563C-1CD7-4FF7-8E95-7D850C4A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B215-103F-4FCF-801A-5DCDE1A6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8AC-5E87-4E41-8936-E0F85B3B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CAFF-4499-43A8-832F-7556ADD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BE7A-4FD3-4231-94A1-329F1A21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9379-8AC5-4BEB-A33C-8A5721F8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C533-5837-4342-A9AE-EA974640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C936-8EF3-4FE2-B63B-CB4A60DC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74CA-EB31-4FBB-9A5D-64B1405F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EE94-1E9D-4EA8-9D9A-D096DED4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50879-1ED1-4D99-8F7A-0CB85445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2722-113F-4FC7-B255-1B1CA2A3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70B30-E8EC-417F-8C4F-28CDA29B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A77-AFC9-49A7-94ED-85F57296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1915-8D34-49D6-96C0-9844B71D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227AA-865A-434B-86F1-97265788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24AC-3B1F-47A9-BE5B-84950823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5939-A299-47A6-AB23-4626D83C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84A5-E066-4A04-9CD1-9E4E357A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00FF-5EC5-4670-AD21-45EDB9D5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CE6E-528B-4A12-BCF2-DCA50079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25CD-A763-45DE-9C3C-60FC364D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7E5B9-144B-4001-830B-173B67F4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A37B4-3267-400A-AD87-2FCAE99A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8D4-AC21-4ED0-92BA-455289BD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64B8-1D47-46F7-AC92-DE1A496D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9292B-2F1C-4D1E-B3A6-9C6C4568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69A08-4B68-4233-9EF7-1D0AEC3A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00BEB-44F8-49A1-8C86-378A6BB7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9CBB-A16A-4A4A-BF26-108320CC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E4DE7-1F65-45AA-A997-D69C64E7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20B5-8B10-4CF3-8A99-713A8B29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68BDE-C439-489F-8C73-AB63B34B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6275-E776-4AC9-AB5C-4833C38B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7820-FD99-47BA-A755-EC8E7830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A67-048F-468D-B153-8D6B1737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561AD-F338-4F91-B375-9109C06E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0E43-234B-482C-A23A-CF9EDB9B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9E9E5-462A-4FEF-8BA6-328D95F3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E27E7-E37C-4F32-BF52-2A67C459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891BD-72C9-4864-9486-4AC5048A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D6118-1A45-452D-8D48-74615D42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3A67-AEA9-4C2C-81A9-93D1DF7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3BFD8-31D0-4C5B-A105-0277869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8865C-64DD-41B7-BBBF-6F37FDFB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2A586-52CA-4F73-B485-51C00467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852-CD48-4858-A41E-F11353CE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20FF-8153-4ADB-AD41-311A0569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BC74-ED33-4294-9A84-B2D7F880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A76A7-3797-4A38-B1DE-6D5998C4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E5B27-9E20-442A-9CCA-397D41C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49EC1-9A53-4E4F-8A14-46FFD824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78F68-C541-492E-BFC9-5BCBD1FD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F8FB5-D2DE-49A6-8F6A-1C0EA77B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9B89B-B057-407D-A914-5E3DCA42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80B28-600E-4306-B55B-2595B75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9AE6B-8FEA-43ED-8B45-1DF0DE09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8F1-1B29-43FF-983C-ED7037E4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0B83A-4B02-4F8F-AD7D-5F2CAEF0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74AA0-C1FA-48B2-A5F0-D65D58DD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58C3A-53E7-4A70-B977-D28812BB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649EB-F20C-48BB-83CF-3E052240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972AC-F9BB-4D53-8F12-2B8EF13C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6E5F3-FDD2-4938-9731-889B3869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A2754-37BA-47C5-B9A3-19630C42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8AFA6-781A-474F-BC5D-2C224B0B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24DCE-2811-4D86-A17F-8052C6DE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61738-11DE-481F-AD7A-74638022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DB6-4495-4550-A106-49A48AA9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38974-D7B5-4A6B-808A-A4477809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E1601-705D-42FA-B420-E237920D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B2DB6-26F8-4293-AB80-778DECAF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A32BF-E900-47AF-98C5-7A4B02F3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23A05-99F5-4A5B-9F7E-11FDC68B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9E422-1B14-4D52-B356-DC967C19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52ED1-2356-4C99-8270-867BA698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780B3-E587-40BE-933D-D64BFA19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14FBB-4FF3-43EE-A285-6360EA44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AF0B8-6516-4A47-889C-7AD2CB60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B9C-125A-4BAC-91D0-0605448C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5CA6A-6B7F-4883-980D-77E0BB46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C3A0E-53C8-46D9-8C60-06A408A4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EC3BB-2A63-46A6-8404-9BF1905D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378BA-A310-42AF-9E6B-B54DC0BB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D90EF-16C9-4922-AFAD-EBD0B5A6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E3495-6F27-4D8B-89E9-0DB901DF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D1970-41C5-4ADF-8476-98C48270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E3F2-DC26-4C89-B01E-CBD1F43513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16 Forma libre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" name="18 Forma libre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7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19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60" name="20 Conector recto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5251-5F71-4BCF-AE41-6409BBE8B5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4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7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499A-0751-4300-84C7-5495232156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3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6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8ABE-0D27-47D4-A098-6AF4265275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0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3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6E01-2DF6-4A8B-96A6-58CD3CB1BB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50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DC58-9D38-48F3-8DA3-6757F39A0B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4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97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4BD4-A3C4-4BB1-A0B0-7A7635F80B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1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44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7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16 Triángulo rectángulo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50" name="18 Conector recto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1DBA-2F97-4F38-BE75-615E91D65C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sole-kids.wikispaces.com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396" name="3 Imagen" descr="kids wiki 1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915080"/>
          </a:xfrm>
          <a:prstGeom prst="rect">
            <a:avLst/>
          </a:prstGeom>
          <a:ln w="0">
            <a:noFill/>
          </a:ln>
        </p:spPr>
      </p:pic>
      <p:sp>
        <p:nvSpPr>
          <p:cNvPr id="397" name="4 CuadroTexto"/>
          <p:cNvSpPr/>
          <p:nvPr/>
        </p:nvSpPr>
        <p:spPr>
          <a:xfrm>
            <a:off x="1752480" y="304920"/>
            <a:ext cx="60199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sole-kids.wikispaces.co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2 Título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425" name="7 Marcador de contenido" descr="kids wiki 8.jpg"/>
          <p:cNvPicPr/>
          <p:nvPr/>
        </p:nvPicPr>
        <p:blipFill>
          <a:blip r:embed="rId2"/>
          <a:stretch/>
        </p:blipFill>
        <p:spPr>
          <a:xfrm>
            <a:off x="457200" y="1600200"/>
            <a:ext cx="8686800" cy="4114800"/>
          </a:xfrm>
          <a:prstGeom prst="rect">
            <a:avLst/>
          </a:prstGeom>
          <a:ln w="0">
            <a:noFill/>
          </a:ln>
        </p:spPr>
      </p:pic>
      <p:cxnSp>
        <p:nvCxnSpPr>
          <p:cNvPr id="426" name="9 Conector recto de flecha"/>
          <p:cNvCxnSpPr/>
          <p:nvPr/>
        </p:nvCxnSpPr>
        <p:spPr>
          <a:xfrm>
            <a:off x="1523520" y="1218960"/>
            <a:ext cx="2515320" cy="19054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427" name="12 Conector curvado"/>
          <p:cNvCxnSpPr/>
          <p:nvPr/>
        </p:nvCxnSpPr>
        <p:spPr>
          <a:xfrm flipH="1" rot="16200000">
            <a:off x="2438280" y="1218960"/>
            <a:ext cx="1982160" cy="1676880"/>
          </a:xfrm>
          <a:prstGeom prst="curvedConnector5">
            <a:avLst>
              <a:gd name="adj1" fmla="val 49990"/>
              <a:gd name="adj2" fmla="val 49989"/>
              <a:gd name="adj3" fmla="val 49990"/>
            </a:avLst>
          </a:prstGeom>
          <a:ln w="93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428" name="14 Conector curvado"/>
          <p:cNvCxnSpPr/>
          <p:nvPr/>
        </p:nvCxnSpPr>
        <p:spPr>
          <a:xfrm flipH="1" rot="16200000">
            <a:off x="2895480" y="1752120"/>
            <a:ext cx="1905480" cy="838800"/>
          </a:xfrm>
          <a:prstGeom prst="curvedConnector5">
            <a:avLst>
              <a:gd name="adj1" fmla="val 50000"/>
              <a:gd name="adj2" fmla="val 49978"/>
              <a:gd name="adj3" fmla="val 50000"/>
            </a:avLst>
          </a:prstGeom>
          <a:ln w="93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3 Marcador de contenido" descr="kids wiki 9.jpg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200400"/>
          </a:xfrm>
          <a:prstGeom prst="rect">
            <a:avLst/>
          </a:prstGeom>
          <a:ln w="0">
            <a:noFill/>
          </a:ln>
        </p:spPr>
      </p:pic>
      <p:pic>
        <p:nvPicPr>
          <p:cNvPr id="430" name="2 Título" descr=""/>
          <p:cNvPicPr/>
          <p:nvPr/>
        </p:nvPicPr>
        <p:blipFill>
          <a:blip r:embed="rId2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31" name="5 Conector recto de flecha"/>
          <p:cNvCxnSpPr/>
          <p:nvPr/>
        </p:nvCxnSpPr>
        <p:spPr>
          <a:xfrm>
            <a:off x="3199320" y="1218960"/>
            <a:ext cx="610200" cy="1524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32" name="7 Elipse"/>
          <p:cNvSpPr/>
          <p:nvPr/>
        </p:nvSpPr>
        <p:spPr>
          <a:xfrm>
            <a:off x="3429000" y="2362320"/>
            <a:ext cx="914400" cy="838080"/>
          </a:xfrm>
          <a:prstGeom prst="ellipse">
            <a:avLst/>
          </a:prstGeom>
          <a:noFill/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3 Marcador de contenido" descr="kids wiki 10.jpg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pic>
        <p:nvPicPr>
          <p:cNvPr id="434" name="2 Título" descr=""/>
          <p:cNvPicPr/>
          <p:nvPr/>
        </p:nvPicPr>
        <p:blipFill>
          <a:blip r:embed="rId2"/>
          <a:stretch/>
        </p:blipFill>
        <p:spPr>
          <a:xfrm>
            <a:off x="401760" y="298440"/>
            <a:ext cx="837072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35" name="7 Conector recto de flecha"/>
          <p:cNvCxnSpPr/>
          <p:nvPr/>
        </p:nvCxnSpPr>
        <p:spPr>
          <a:xfrm flipH="1">
            <a:off x="2514240" y="837000"/>
            <a:ext cx="5334480" cy="2057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3 Marcador de contenido" descr="kids wiki 11.jpg"/>
          <p:cNvPicPr/>
          <p:nvPr/>
        </p:nvPicPr>
        <p:blipFill>
          <a:blip r:embed="rId1"/>
          <a:stretch/>
        </p:blipFill>
        <p:spPr>
          <a:xfrm>
            <a:off x="838080" y="1143000"/>
            <a:ext cx="7166160" cy="4876920"/>
          </a:xfrm>
          <a:prstGeom prst="rect">
            <a:avLst/>
          </a:prstGeom>
          <a:ln w="0">
            <a:noFill/>
          </a:ln>
        </p:spPr>
      </p:pic>
      <p:pic>
        <p:nvPicPr>
          <p:cNvPr id="437" name="2 Título" descr=""/>
          <p:cNvPicPr/>
          <p:nvPr/>
        </p:nvPicPr>
        <p:blipFill>
          <a:blip r:embed="rId2"/>
          <a:stretch/>
        </p:blipFill>
        <p:spPr>
          <a:xfrm>
            <a:off x="401760" y="146160"/>
            <a:ext cx="8370720" cy="1158840"/>
          </a:xfrm>
          <a:prstGeom prst="rect">
            <a:avLst/>
          </a:prstGeom>
          <a:ln w="0">
            <a:noFill/>
          </a:ln>
        </p:spPr>
      </p:pic>
      <p:sp>
        <p:nvSpPr>
          <p:cNvPr id="438" name="4 Rectángulo"/>
          <p:cNvSpPr/>
          <p:nvPr/>
        </p:nvSpPr>
        <p:spPr>
          <a:xfrm>
            <a:off x="2057400" y="4648320"/>
            <a:ext cx="1828800" cy="380880"/>
          </a:xfrm>
          <a:prstGeom prst="rect">
            <a:avLst/>
          </a:prstGeom>
          <a:noFill/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3 Marcador de contenido" descr="kids wiki 12.jpg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3471840"/>
          </a:xfrm>
          <a:prstGeom prst="rect">
            <a:avLst/>
          </a:prstGeom>
          <a:ln w="0">
            <a:noFill/>
          </a:ln>
        </p:spPr>
      </p:pic>
      <p:pic>
        <p:nvPicPr>
          <p:cNvPr id="440" name="2 Título" descr=""/>
          <p:cNvPicPr/>
          <p:nvPr/>
        </p:nvPicPr>
        <p:blipFill>
          <a:blip r:embed="rId2"/>
          <a:stretch/>
        </p:blipFill>
        <p:spPr>
          <a:xfrm>
            <a:off x="328680" y="378000"/>
            <a:ext cx="8364600" cy="725400"/>
          </a:xfrm>
          <a:prstGeom prst="rect">
            <a:avLst/>
          </a:prstGeom>
          <a:ln w="0">
            <a:noFill/>
          </a:ln>
        </p:spPr>
      </p:pic>
      <p:sp>
        <p:nvSpPr>
          <p:cNvPr id="441" name="5 CuadroTexto"/>
          <p:cNvSpPr/>
          <p:nvPr/>
        </p:nvSpPr>
        <p:spPr>
          <a:xfrm>
            <a:off x="1752480" y="5181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omic Sans MS"/>
              </a:rPr>
              <a:t>Don’t forget to click on po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42" name="7 Conector recto de flecha"/>
          <p:cNvCxnSpPr/>
          <p:nvPr/>
        </p:nvCxnSpPr>
        <p:spPr>
          <a:xfrm flipH="1">
            <a:off x="3199680" y="838080"/>
            <a:ext cx="1067400" cy="2439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3" name="9 Conector recto de flecha"/>
          <p:cNvCxnSpPr/>
          <p:nvPr/>
        </p:nvCxnSpPr>
        <p:spPr>
          <a:xfrm flipV="1">
            <a:off x="5562720" y="4494960"/>
            <a:ext cx="915120" cy="762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omic Sans MS"/>
              </a:rPr>
              <a:t>Post a message on the discussion tab for your SOLE…Examp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omic Sans MS"/>
              </a:rPr>
              <a:t>ENJOY!!!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2 Título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957240"/>
          </a:xfrm>
          <a:prstGeom prst="rect">
            <a:avLst/>
          </a:prstGeom>
          <a:ln w="0">
            <a:noFill/>
          </a:ln>
        </p:spPr>
      </p:pic>
      <p:pic>
        <p:nvPicPr>
          <p:cNvPr id="446" name="3 Imagen" descr="kids wiki 14.jpg"/>
          <p:cNvPicPr/>
          <p:nvPr/>
        </p:nvPicPr>
        <p:blipFill>
          <a:blip r:embed="rId2"/>
          <a:stretch/>
        </p:blipFill>
        <p:spPr>
          <a:xfrm>
            <a:off x="609480" y="1981080"/>
            <a:ext cx="7696440" cy="3986280"/>
          </a:xfrm>
          <a:prstGeom prst="rect">
            <a:avLst/>
          </a:prstGeom>
          <a:ln w="0">
            <a:noFill/>
          </a:ln>
        </p:spPr>
      </p:pic>
      <p:cxnSp>
        <p:nvCxnSpPr>
          <p:cNvPr id="447" name="5 Conector recto de flecha"/>
          <p:cNvCxnSpPr/>
          <p:nvPr/>
        </p:nvCxnSpPr>
        <p:spPr>
          <a:xfrm flipH="1">
            <a:off x="2895120" y="1522800"/>
            <a:ext cx="1829520" cy="114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48" name="7 CuadroTexto"/>
          <p:cNvSpPr/>
          <p:nvPr/>
        </p:nvSpPr>
        <p:spPr>
          <a:xfrm>
            <a:off x="2209680" y="59436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omic Sans MS"/>
              </a:rPr>
              <a:t>We’ll answer ASAP (as soon as possible)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omic Sans MS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17375e"/>
                </a:solidFill>
                <a:latin typeface="Comic Sans MS"/>
              </a:rPr>
              <a:t>ENJOY!!!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3 Marcador de contenido" descr="kids wiki 2.jpg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4906800"/>
          </a:xfrm>
          <a:prstGeom prst="rect">
            <a:avLst/>
          </a:prstGeom>
          <a:ln w="0">
            <a:noFill/>
          </a:ln>
        </p:spPr>
      </p:pic>
      <p:pic>
        <p:nvPicPr>
          <p:cNvPr id="399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00" name="5 Conector recto de flecha"/>
          <p:cNvCxnSpPr/>
          <p:nvPr/>
        </p:nvCxnSpPr>
        <p:spPr>
          <a:xfrm flipH="1">
            <a:off x="1294560" y="837720"/>
            <a:ext cx="1600920" cy="2591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3 Marcador de contenido" descr="kids wiki 3.jpg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5105160"/>
          </a:xfrm>
          <a:prstGeom prst="rect">
            <a:avLst/>
          </a:prstGeom>
          <a:ln w="0">
            <a:noFill/>
          </a:ln>
        </p:spPr>
      </p:pic>
      <p:pic>
        <p:nvPicPr>
          <p:cNvPr id="402" name="1 Título" descr=""/>
          <p:cNvPicPr/>
          <p:nvPr/>
        </p:nvPicPr>
        <p:blipFill>
          <a:blip r:embed="rId2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03" name="5 Conector recto de flecha"/>
          <p:cNvCxnSpPr/>
          <p:nvPr/>
        </p:nvCxnSpPr>
        <p:spPr>
          <a:xfrm flipH="1">
            <a:off x="1371240" y="990360"/>
            <a:ext cx="2210400" cy="3886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5 Marcador de contenido" descr="kids wiki 4.jpg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cxnSp>
        <p:nvCxnSpPr>
          <p:cNvPr id="406" name="20 Conector angular"/>
          <p:cNvCxnSpPr/>
          <p:nvPr/>
        </p:nvCxnSpPr>
        <p:spPr>
          <a:xfrm>
            <a:off x="5181120" y="1219320"/>
            <a:ext cx="1143720" cy="9151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3 Marcador de contenido" descr="kids wiki 5.jpg"/>
          <p:cNvPicPr/>
          <p:nvPr/>
        </p:nvPicPr>
        <p:blipFill>
          <a:blip r:embed="rId1"/>
          <a:stretch/>
        </p:blipFill>
        <p:spPr>
          <a:xfrm>
            <a:off x="950760" y="1219320"/>
            <a:ext cx="7242480" cy="4787640"/>
          </a:xfrm>
          <a:prstGeom prst="rect">
            <a:avLst/>
          </a:prstGeom>
          <a:ln w="0">
            <a:noFill/>
          </a:ln>
        </p:spPr>
      </p:pic>
      <p:pic>
        <p:nvPicPr>
          <p:cNvPr id="408" name="2 Título" descr=""/>
          <p:cNvPicPr/>
          <p:nvPr/>
        </p:nvPicPr>
        <p:blipFill>
          <a:blip r:embed="rId2"/>
          <a:stretch/>
        </p:blipFill>
        <p:spPr>
          <a:xfrm>
            <a:off x="401760" y="225360"/>
            <a:ext cx="8291520" cy="927000"/>
          </a:xfrm>
          <a:prstGeom prst="rect">
            <a:avLst/>
          </a:prstGeom>
          <a:ln w="0">
            <a:noFill/>
          </a:ln>
        </p:spPr>
      </p:pic>
      <p:sp>
        <p:nvSpPr>
          <p:cNvPr id="409" name="4 CuadroTexto"/>
          <p:cNvSpPr/>
          <p:nvPr/>
        </p:nvSpPr>
        <p:spPr>
          <a:xfrm>
            <a:off x="4876920" y="32767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omic Sans MS"/>
              </a:rPr>
              <a:t>And click sign in agai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10" name="6 Conector recto de flecha"/>
          <p:cNvCxnSpPr>
            <a:stCxn id="409" idx="1"/>
          </p:cNvCxnSpPr>
          <p:nvPr/>
        </p:nvCxnSpPr>
        <p:spPr>
          <a:xfrm flipH="1" flipV="1">
            <a:off x="4419360" y="3352320"/>
            <a:ext cx="457920" cy="108720"/>
          </a:xfrm>
          <a:prstGeom prst="straightConnector1">
            <a:avLst/>
          </a:prstGeom>
          <a:ln w="1260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2 Título" descr=""/>
          <p:cNvPicPr/>
          <p:nvPr/>
        </p:nvPicPr>
        <p:blipFill>
          <a:blip r:embed="rId1"/>
          <a:stretch/>
        </p:blipFill>
        <p:spPr>
          <a:xfrm>
            <a:off x="328680" y="225360"/>
            <a:ext cx="836460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6 Marcador de contenido" descr="kids wiki 6.jpg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cxnSp>
        <p:nvCxnSpPr>
          <p:cNvPr id="413" name="8 Conector recto de flecha"/>
          <p:cNvCxnSpPr/>
          <p:nvPr/>
        </p:nvCxnSpPr>
        <p:spPr>
          <a:xfrm flipH="1">
            <a:off x="2590560" y="1141920"/>
            <a:ext cx="5029920" cy="1067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3 Marcador de contenido" descr="kids wiki 7.jpg"/>
          <p:cNvPicPr/>
          <p:nvPr/>
        </p:nvPicPr>
        <p:blipFill>
          <a:blip r:embed="rId1"/>
          <a:stretch/>
        </p:blipFill>
        <p:spPr>
          <a:xfrm>
            <a:off x="950760" y="1295280"/>
            <a:ext cx="7242480" cy="4711680"/>
          </a:xfrm>
          <a:prstGeom prst="rect">
            <a:avLst/>
          </a:prstGeom>
          <a:ln w="0">
            <a:noFill/>
          </a:ln>
        </p:spPr>
      </p:pic>
      <p:pic>
        <p:nvPicPr>
          <p:cNvPr id="415" name="2 Título" descr=""/>
          <p:cNvPicPr/>
          <p:nvPr/>
        </p:nvPicPr>
        <p:blipFill>
          <a:blip r:embed="rId2"/>
          <a:stretch/>
        </p:blipFill>
        <p:spPr>
          <a:xfrm>
            <a:off x="347760" y="231840"/>
            <a:ext cx="8345520" cy="1195200"/>
          </a:xfrm>
          <a:prstGeom prst="rect">
            <a:avLst/>
          </a:prstGeom>
          <a:ln w="0">
            <a:noFill/>
          </a:ln>
        </p:spPr>
      </p:pic>
      <p:cxnSp>
        <p:nvCxnSpPr>
          <p:cNvPr id="416" name="6 Conector recto de flecha"/>
          <p:cNvCxnSpPr/>
          <p:nvPr/>
        </p:nvCxnSpPr>
        <p:spPr>
          <a:xfrm>
            <a:off x="4419720" y="990360"/>
            <a:ext cx="762480" cy="3429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3 Marcador de contenido" descr="kids wiki 6b.jpg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pic>
        <p:nvPicPr>
          <p:cNvPr id="418" name="2 Título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34552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19" name="5 Conector recto de flecha"/>
          <p:cNvCxnSpPr/>
          <p:nvPr/>
        </p:nvCxnSpPr>
        <p:spPr>
          <a:xfrm>
            <a:off x="3275640" y="1142640"/>
            <a:ext cx="686520" cy="2896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20" name="6 CuadroTexto"/>
          <p:cNvSpPr/>
          <p:nvPr/>
        </p:nvSpPr>
        <p:spPr>
          <a:xfrm>
            <a:off x="54864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mic Sans MS"/>
              </a:rPr>
              <a:t>Another option: write on a Word document, and then transfer to wiki pag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3 Marcador de contenido" descr="kids wiki 6c.jpg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pic>
        <p:nvPicPr>
          <p:cNvPr id="422" name="2 Título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34552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23" name="5 Conector recto de flecha"/>
          <p:cNvCxnSpPr/>
          <p:nvPr/>
        </p:nvCxnSpPr>
        <p:spPr>
          <a:xfrm>
            <a:off x="5638680" y="838080"/>
            <a:ext cx="1829520" cy="1372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3:08:47Z</dcterms:created>
  <dc:creator>MABEL</dc:creator>
  <dc:description/>
  <dc:language>en-US</dc:language>
  <cp:lastModifiedBy>MABEL</cp:lastModifiedBy>
  <dcterms:modified xsi:type="dcterms:W3CDTF">2009-10-24T01:50:50Z</dcterms:modified>
  <cp:revision>26</cp:revision>
  <dc:subject/>
  <dc:title>Diapositiva 1</dc:title>
</cp:coreProperties>
</file>